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EB0C-11E6-48A9-A3E4-EBDFF4846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7955-5767-4748-8BFD-5DBDF1D9E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AF96-FFA5-43CB-BA23-FBD4BD57F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5517-8689-4A25-9E0E-91A9823F3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E42D-B4CC-4B67-9C0A-CBBFFFD7A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5D4A-DE7F-47BA-9330-DE5627696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6AEB-BF8B-4733-B734-987996247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5685-EF0B-44D6-8B06-073FB497C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021F-8CC3-411B-A352-461D7F8D3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A2E6-B1AD-48A8-B4BF-9DFF0AFD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F1C6-0000-4091-8C87-D1802B19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A039-48E7-449F-8662-234C29DE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7E2B1-5521-4B51-9788-5C186552E2E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urlz MT"/>
              </a:rPr>
              <a:t>How did early Maori make </a:t>
            </a:r>
            <a:br>
              <a:rPr sz="4400"/>
            </a:br>
            <a:r>
              <a:rPr b="1" lang="en-NZ" sz="4400" spc="-1" strike="noStrike">
                <a:solidFill>
                  <a:srgbClr val="000000"/>
                </a:solidFill>
                <a:latin typeface="Curlz MT"/>
              </a:rPr>
              <a:t>fire and cook foo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urlz MT"/>
              </a:rPr>
              <a:t>By Aimee and Jor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Digging the p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dig the Hangi pit according to the size of the bask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are laying or the number of people you are catering fo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er heated stones are used as the cooking tool although alternative metals can be used. Wire baskets are used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ld the food. Traditionally it is the men Ko na ira Ta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o put the Hangi's down as Wahine (women) aren'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owed to take part in this part of the preparation.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n and the woman work together in preparing the foo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the Hangi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Things that are cooked in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 a hang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people cook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getables such as kumara (sweet potato),        pumpkin, carrot, potato, onions and cabbage are norm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Cooked in the hang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268360" y="3141720"/>
            <a:ext cx="3924360" cy="28875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Curlz MT"/>
              </a:rPr>
              <a:t>We hoped you liked our </a:t>
            </a:r>
            <a:br>
              <a:rPr sz="4000"/>
            </a:br>
            <a:r>
              <a:rPr b="1" lang="en-NZ" sz="4000" spc="-1" strike="noStrike">
                <a:solidFill>
                  <a:srgbClr val="000000"/>
                </a:solidFill>
                <a:latin typeface="Curlz MT"/>
              </a:rPr>
              <a:t>Power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132000" y="2565360"/>
            <a:ext cx="2521080" cy="2521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How did Maori cook f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aori cooked food by using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hangi. It is very hard to prepare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hang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How did Maori make fi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aori made fire by rubbing tw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sticks together 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wood used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Kaikomako. </a:t>
            </a:r>
            <a:br>
              <a:rPr sz="3200"/>
            </a:b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Steps to make a hang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oking Oven is Prepared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ood &amp; Stones Prepared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ood is Prepared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476360" y="1844640"/>
            <a:ext cx="1752480" cy="1314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476360" y="3645000"/>
            <a:ext cx="1762200" cy="1400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1476360" y="5448240"/>
            <a:ext cx="1655640" cy="13240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" dur="5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tones are Super Hea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Basket is Prepa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547640" y="836640"/>
            <a:ext cx="1762200" cy="14097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476360" y="4437000"/>
            <a:ext cx="1752480" cy="14097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1476360" y="2781360"/>
            <a:ext cx="1752480" cy="14097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33200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re food is added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 splashed over the hangi to cause steam &amp; cover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ngi is left to cook 3-4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476360" y="620640"/>
            <a:ext cx="1752480" cy="1419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476360" y="2492280"/>
            <a:ext cx="1752480" cy="1419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1476360" y="4724280"/>
            <a:ext cx="1790640" cy="13525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53964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n the Sacking is remov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n the Hangi is expose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ngi well cooked ready to serv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476360" y="836640"/>
            <a:ext cx="1781280" cy="1333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476360" y="3284640"/>
            <a:ext cx="1781280" cy="1162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1476360" y="5013360"/>
            <a:ext cx="1790640" cy="118116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116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times during the making of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ngi, sticks were stacked or placed acr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rim of the Hangi to  to prevent crush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om the weight of the earth on top. A pro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 term we call rakau korehina. These day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are many different Hangi methods us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re baskets became widely used in the ear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9th century with sacking and cloth replac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aves and bark as the covering of choice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Hangi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91440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king was not done in the main house, but in special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ilt sheds called whanau or kauta, or the food was sim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ked out in the open. Food was generally eaten in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pen, or in a whanau. Distinguished visitors, if sleep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he large important meeting house, might be serv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 food in the house, but the food must be placed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arrow space left in the center as you enter the doo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1T20:39:37Z</dcterms:created>
  <dc:creator>5d09</dc:creator>
  <dc:description/>
  <dc:language>en-US</dc:language>
  <cp:lastModifiedBy>5d09</cp:lastModifiedBy>
  <dcterms:modified xsi:type="dcterms:W3CDTF">2013-06-18T00:33:14Z</dcterms:modified>
  <cp:revision>7</cp:revision>
  <dc:subject/>
  <dc:title>Slide 1</dc:title>
</cp:coreProperties>
</file>